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5FD-7793-4859-8277-673F1193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18E-453A-42E7-9B18-9C78A68B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EA1-B0F8-4894-99D7-57DC0571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640-0DD7-4CEF-B967-BEA1FDA6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64C-547F-4056-A61D-5F9F57F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7BF-743D-42A5-B7D2-67A897CA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105-BF20-4077-B4CA-6C73773F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EDD-2402-4AA6-9CC7-C7E34A28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87A-3705-4A3C-B4D6-D8E4A41C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D54-13B9-4F97-AE3D-5CF0159E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737-5593-4DA4-A9CC-24E0E8A7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87C-AA5F-4F98-8F47-1F32322A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BD24-B1E6-44E9-BACA-256786A4D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1J Populations and Simple Random S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urveys and s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urveys are used to collect data about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target population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we need to conduct a survey on a large population (e.g. all Australians), a smaller representative group must first be selected. This small group is called a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ampl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ample siz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needs to be large enough for a survey to be effectiv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imple Random S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Consider a survey that investigates how frequently Australians exercise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To select a good sample, 2 things are important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Each selection must be random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If our sample only contained professional athletes, the survey would be useles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2.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Selections must be independent of each other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This means that 1 person being selected should </a:t>
            </a: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have no effect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 on the chances of anyone else being selected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A sample that meets both conditions is called a </a:t>
            </a:r>
            <a:r>
              <a:rPr b="1" lang="en-AU" sz="2400" spc="-1" strike="noStrike">
                <a:solidFill>
                  <a:srgbClr val="000000"/>
                </a:solidFill>
                <a:latin typeface="Cambria"/>
              </a:rPr>
              <a:t>simple random sample</a:t>
            </a:r>
            <a:r>
              <a:rPr b="0" lang="en-A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Using Calculators to Select Simple Random S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ambria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Select a simple random sample of 8 students from a class of 25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AU" sz="2000" spc="-1" strike="noStrike">
                <a:solidFill>
                  <a:srgbClr val="000000"/>
                </a:solidFill>
                <a:latin typeface="Cambria"/>
              </a:rPr>
              <a:t>Steps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1. Number students from 1 to 25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2. On TI-Nspire CAS, go into </a:t>
            </a:r>
            <a:r>
              <a:rPr b="1" lang="en-AU" sz="2000" spc="-1" strike="noStrike">
                <a:solidFill>
                  <a:srgbClr val="000000"/>
                </a:solidFill>
                <a:latin typeface="Cambria"/>
              </a:rPr>
              <a:t>Calculator mod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3. press menu – 5: Probability – 4: Random – 2: Integ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4. randInt(1, 25) generates 1 random number from 1 to 25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randInt(1, 25, 8) generates 8 random numbers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5. If any numbers are duplicated, repeat the process and take the next unique number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mbria"/>
              </a:rPr>
              <a:t>* Simple Random Samples are a significant part of the first SAC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ercise 1J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Read p.51 to 5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ercise 1J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Choose six Tattslotto numbers (6 numbers between 1 and 45) randomly using your CAS calculato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0:39:51Z</dcterms:created>
  <dc:creator>08843474</dc:creator>
  <dc:description/>
  <dc:language>en-US</dc:language>
  <cp:lastModifiedBy>08843474</cp:lastModifiedBy>
  <dcterms:modified xsi:type="dcterms:W3CDTF">2011-02-07T11:49:29Z</dcterms:modified>
  <cp:revision>16</cp:revision>
  <dc:subject/>
  <dc:title>1J Simple Random Samples</dc:title>
</cp:coreProperties>
</file>